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30060-98B7-4F13-B98B-161652B5CFB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BCCD1-F059-4072-B277-2C12C8F975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3BFA-D0BC-45DF-9E4E-DF3DBBF60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1443-A7ED-4F34-814B-B2624450E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7399-5C58-43BB-872E-8054523ED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E16E-2FD0-4AB7-8D81-7787F83DA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3C83-2C73-46AB-BAB7-1BD5382D8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59A5-FE0F-4B2E-A71E-BF2C5A538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ED50-B851-46E7-9F95-3CB833A73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7902-7FA7-48BB-B14A-C4F14B30E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A7C3-8F50-4D31-9716-52CFEF88E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E1DA-1928-4AD9-AA91-08B422818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4109-9B7A-4AD4-A983-4E9DD7422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8A2B-7803-4815-BC47-8362BF057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FB002-B3A7-4196-963F-0F3DB588B78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alphaomega.jpg"/>
          <p:cNvPicPr/>
          <p:nvPr/>
        </p:nvPicPr>
        <p:blipFill>
          <a:blip r:embed="rId2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:Grammar </a:t>
            </a:r>
            <a:fld id="{ED3B5409-B071-4F85-9FB1-B3CE4EB4F78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241200" y="244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0.1 COND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785880" y="1247760"/>
            <a:ext cx="75438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0.1.1 The basic conditional senten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14200" y="2133720"/>
          <a:ext cx="9072720" cy="2295360"/>
        </p:xfrm>
        <a:graphic>
          <a:graphicData uri="http://schemas.openxmlformats.org/drawingml/2006/table">
            <a:tbl>
              <a:tblPr/>
              <a:tblGrid>
                <a:gridCol w="1621080"/>
                <a:gridCol w="3736800"/>
                <a:gridCol w="371484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asis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the 'if' clau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odosis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the 'then' clau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l</a:t>
                      </a: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5.18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εἰ δε πνευματι ἀγεσθ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οὐκ ἐστε ὑπο νομο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you are led by the spir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are not under la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Text Box 54"/>
          <p:cNvSpPr/>
          <p:nvPr/>
        </p:nvSpPr>
        <p:spPr>
          <a:xfrm>
            <a:off x="228600" y="4276800"/>
            <a:ext cx="89866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you like Greek (then) you are wise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t is true that you like Greek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HE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t is automatically true that you are wi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Box 1"/>
          <p:cNvSpPr/>
          <p:nvPr/>
        </p:nvSpPr>
        <p:spPr>
          <a:xfrm>
            <a:off x="244440" y="247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0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GENITIVE ABSOLUT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:Grammar </a:t>
            </a:r>
            <a:fld id="{FACC597C-058F-4412-8255-984267D6FD4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1"/>
          <p:cNvSpPr/>
          <p:nvPr/>
        </p:nvSpPr>
        <p:spPr>
          <a:xfrm>
            <a:off x="8075160" y="3697200"/>
            <a:ext cx="78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Group 46" descr=""/>
          <p:cNvPicPr/>
          <p:nvPr/>
        </p:nvPicPr>
        <p:blipFill>
          <a:blip r:embed="rId1"/>
          <a:stretch/>
        </p:blipFill>
        <p:spPr>
          <a:xfrm>
            <a:off x="895320" y="1901880"/>
            <a:ext cx="7456680" cy="440676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44"/>
          <p:cNvSpPr/>
          <p:nvPr/>
        </p:nvSpPr>
        <p:spPr>
          <a:xfrm>
            <a:off x="214200" y="1143000"/>
            <a:ext cx="85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rk 14.17: 'Evening having happened, he comes with the twelve'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traight Connector 41"/>
          <p:cNvSpPr/>
          <p:nvPr/>
        </p:nvSpPr>
        <p:spPr>
          <a:xfrm>
            <a:off x="3338640" y="1785960"/>
            <a:ext cx="1440" cy="4398840"/>
          </a:xfrm>
          <a:prstGeom prst="line">
            <a:avLst/>
          </a:prstGeom>
          <a:ln w="255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Box 1"/>
          <p:cNvSpPr/>
          <p:nvPr/>
        </p:nvSpPr>
        <p:spPr>
          <a:xfrm>
            <a:off x="244440" y="247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0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GENITIVE ABSOLUT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:Grammar </a:t>
            </a:r>
            <a:fld id="{F1A9CDC3-194A-47E9-B78B-35B5547464E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985680" y="1984320"/>
            <a:ext cx="7162920" cy="3378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Hint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nitive absolutes normally occur at the beginning of sentences – so if the first word in a sentence is in the genitive, 'think genitive absolute'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ery often genitive absolutes give some 'background information', such as the time or circumstances at which something happen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Box 1"/>
          <p:cNvSpPr/>
          <p:nvPr/>
        </p:nvSpPr>
        <p:spPr>
          <a:xfrm>
            <a:off x="244440" y="247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0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GENITIVE ABSOLUT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:Grammar </a:t>
            </a:r>
            <a:fld id="{EA43F466-8398-4ABF-8AB1-75CF3761CBA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142920" y="1157400"/>
            <a:ext cx="9001080" cy="51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rk 14.66: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αι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</a:rPr>
              <a:t>ὀντος του Πετρου κατω ἐν τῃ αὐλῃ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ρχεται μια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ων παιδισκω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While Peter was below in the Hal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one of the servant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irls of the high priest c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tt. 26.21: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αι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</a:rPr>
              <a:t>ἐσθιοντων αὐτων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εἰπεν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∙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μην λεγω ὑμιν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While they were eatin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Jesus said, 'Amen I say t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…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m. 5.13: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ἁμαρτια δε οὐκ ἐλλογειται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</a:rPr>
              <a:t>μη ὀντος νομου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n is not counted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when there is no law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Box 1"/>
          <p:cNvSpPr/>
          <p:nvPr/>
        </p:nvSpPr>
        <p:spPr>
          <a:xfrm>
            <a:off x="244440" y="247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0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ERIPHRASTIC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:Grammar </a:t>
            </a:r>
            <a:fld id="{1037FB2A-18D2-47B0-B915-F725FCC1CA8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353880" y="1928880"/>
          <a:ext cx="8404200" cy="3475080"/>
        </p:xfrm>
        <a:graphic>
          <a:graphicData uri="http://schemas.openxmlformats.org/drawingml/2006/table">
            <a:tbl>
              <a:tblPr/>
              <a:tblGrid>
                <a:gridCol w="2235240"/>
                <a:gridCol w="2683080"/>
                <a:gridCol w="3485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n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iphrastic Constructio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 of 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εἰμ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Present Particip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erf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erfect of 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εἰμ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Present Particip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ture of 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εἰμ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Present Particip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 of 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εἰμ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Perfect Particip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perf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erfect of 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εἰμ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Perfect Particip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ture Perf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ture of 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εἰμ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Perfect Particip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Box 1"/>
          <p:cNvSpPr/>
          <p:nvPr/>
        </p:nvSpPr>
        <p:spPr>
          <a:xfrm>
            <a:off x="244440" y="247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0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ERIPHRASTIC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:Grammar </a:t>
            </a:r>
            <a:fld id="{50010F2A-F4B0-49A4-9E6D-5B7AD75FD77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162000" y="1173240"/>
            <a:ext cx="955368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rk 2.18: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ἠσαν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οἱ μαθηται Ἰωαννου και οἱ Φαρισαιοι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νηστευοντες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disciples of John and the Pharisees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were fastin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ph. 2.5: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χαριτι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ἐστε σεσῳσμενο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y grac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you have been save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John 12: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... 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ἱνα ἡ χαρα ἡμων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πεπληρωμενη ᾐ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…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order that our joy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might be complet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Note: here the periphrastic uses the present subjunctive of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εἰμι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fter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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ἱνα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1"/>
          <p:cNvSpPr/>
          <p:nvPr/>
        </p:nvSpPr>
        <p:spPr>
          <a:xfrm>
            <a:off x="142920" y="4284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0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COMPARISON AND FORMATION OF ADJECTIVES AND AD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:Grammar </a:t>
            </a:r>
            <a:fld id="{A581E489-B3D7-4C0C-8851-CC0C4830D67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23840" y="1596960"/>
          <a:ext cx="8867880" cy="4118040"/>
        </p:xfrm>
        <a:graphic>
          <a:graphicData uri="http://schemas.openxmlformats.org/drawingml/2006/table">
            <a:tbl>
              <a:tblPr/>
              <a:tblGrid>
                <a:gridCol w="2662200"/>
                <a:gridCol w="2714760"/>
                <a:gridCol w="1643040"/>
                <a:gridCol w="1847880"/>
              </a:tblGrid>
              <a:tr h="46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mpl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7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rt Vowe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ng Vowe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jec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σοφ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δικαι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rative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djec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ser, more wi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σοφ</a:t>
                      </a:r>
                      <a:r>
                        <a:rPr b="0" lang="el-GR" sz="2400" spc="-1" strike="noStrike" u="sng">
                          <a:solidFill>
                            <a:srgbClr val="000000"/>
                          </a:solidFill>
                          <a:uFillTx/>
                          <a:latin typeface="Gentium"/>
                        </a:rPr>
                        <a:t>ω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τερ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δικαι</a:t>
                      </a:r>
                      <a:r>
                        <a:rPr b="0" lang="el-GR" sz="2400" spc="-1" strike="noStrike" u="sng">
                          <a:solidFill>
                            <a:srgbClr val="000000"/>
                          </a:solidFill>
                          <a:uFillTx/>
                          <a:latin typeface="Gentium"/>
                        </a:rPr>
                        <a:t>ο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τερ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lative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jec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sest, most/very wi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σοφ</a:t>
                      </a:r>
                      <a:r>
                        <a:rPr b="0" lang="el-GR" sz="2400" spc="-1" strike="noStrike" u="sng">
                          <a:solidFill>
                            <a:srgbClr val="000000"/>
                          </a:solidFill>
                          <a:uFillTx/>
                          <a:latin typeface="Gentium"/>
                        </a:rPr>
                        <a:t>ω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τατ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δικαι</a:t>
                      </a:r>
                      <a:r>
                        <a:rPr b="0" lang="el-GR" sz="2400" spc="-1" strike="noStrike" u="sng">
                          <a:solidFill>
                            <a:srgbClr val="000000"/>
                          </a:solidFill>
                          <a:uFillTx/>
                          <a:latin typeface="Gentium"/>
                        </a:rPr>
                        <a:t>ο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τατ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er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se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σοφω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δικαιω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rative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er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e wise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σοφ</a:t>
                      </a:r>
                      <a:r>
                        <a:rPr b="0" lang="el-GR" sz="2400" spc="-1" strike="noStrike" u="sng">
                          <a:solidFill>
                            <a:srgbClr val="000000"/>
                          </a:solidFill>
                          <a:uFillTx/>
                          <a:latin typeface="Gentium"/>
                        </a:rPr>
                        <a:t>ω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τερο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δικαι</a:t>
                      </a:r>
                      <a:r>
                        <a:rPr b="0" lang="el-GR" sz="2400" spc="-1" strike="noStrike" u="sng">
                          <a:solidFill>
                            <a:srgbClr val="000000"/>
                          </a:solidFill>
                          <a:uFillTx/>
                          <a:latin typeface="Gentium"/>
                        </a:rPr>
                        <a:t>ο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τερο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lative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dver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/very wise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σοφ</a:t>
                      </a:r>
                      <a:r>
                        <a:rPr b="0" lang="el-GR" sz="2400" spc="-1" strike="noStrike" u="sng">
                          <a:solidFill>
                            <a:srgbClr val="000000"/>
                          </a:solidFill>
                          <a:uFillTx/>
                          <a:latin typeface="Gentium"/>
                        </a:rPr>
                        <a:t>ω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τατ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δικαι</a:t>
                      </a:r>
                      <a:r>
                        <a:rPr b="0" lang="el-GR" sz="2400" spc="-1" strike="noStrike" u="sng">
                          <a:solidFill>
                            <a:srgbClr val="000000"/>
                          </a:solidFill>
                          <a:uFillTx/>
                          <a:latin typeface="Gentium"/>
                        </a:rPr>
                        <a:t>ο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τατ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:Grammar </a:t>
            </a:r>
            <a:fld id="{83127DFA-45DB-4DD9-B7D7-449B4E7D37A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28520" y="2185920"/>
          <a:ext cx="9752040" cy="3017880"/>
        </p:xfrm>
        <a:graphic>
          <a:graphicData uri="http://schemas.openxmlformats.org/drawingml/2006/table">
            <a:tbl>
              <a:tblPr/>
              <a:tblGrid>
                <a:gridCol w="1214640"/>
                <a:gridCol w="1000080"/>
                <a:gridCol w="642960"/>
                <a:gridCol w="1785960"/>
                <a:gridCol w="1314360"/>
                <a:gridCol w="231840"/>
                <a:gridCol w="1411200"/>
                <a:gridCol w="1371600"/>
                <a:gridCol w="779400"/>
              </a:tblGrid>
              <a:tr h="5054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jectives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ἀγαθ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κρεισσω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κακ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χειρω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μεγα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μειζω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a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ολυ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λειω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μικρ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a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μικροτερ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aller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λαχιστος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alle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2" name="Text Box 267"/>
          <p:cNvSpPr/>
          <p:nvPr/>
        </p:nvSpPr>
        <p:spPr>
          <a:xfrm>
            <a:off x="685800" y="142884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mon Irregular For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5"/>
          <p:cNvSpPr/>
          <p:nvPr/>
        </p:nvSpPr>
        <p:spPr>
          <a:xfrm>
            <a:off x="142920" y="4284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0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COMPARISON AND FORMATION OF ADJECTIVES AND AD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Straight Arrow Connector 7"/>
          <p:cNvCxnSpPr/>
          <p:nvPr/>
        </p:nvCxnSpPr>
        <p:spPr>
          <a:xfrm>
            <a:off x="2443320" y="2943360"/>
            <a:ext cx="6433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5" name="Straight Arrow Connector 8"/>
          <p:cNvCxnSpPr/>
          <p:nvPr/>
        </p:nvCxnSpPr>
        <p:spPr>
          <a:xfrm>
            <a:off x="2443320" y="3486240"/>
            <a:ext cx="6433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6" name="Straight Arrow Connector 9"/>
          <p:cNvCxnSpPr/>
          <p:nvPr/>
        </p:nvCxnSpPr>
        <p:spPr>
          <a:xfrm>
            <a:off x="2443320" y="3971520"/>
            <a:ext cx="64332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7" name="Straight Arrow Connector 10"/>
          <p:cNvCxnSpPr/>
          <p:nvPr/>
        </p:nvCxnSpPr>
        <p:spPr>
          <a:xfrm>
            <a:off x="2457360" y="4457880"/>
            <a:ext cx="6433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8" name="Straight Arrow Connector 11"/>
          <p:cNvCxnSpPr/>
          <p:nvPr/>
        </p:nvCxnSpPr>
        <p:spPr>
          <a:xfrm>
            <a:off x="2443320" y="4955760"/>
            <a:ext cx="64332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:Grammar </a:t>
            </a:r>
            <a:fld id="{DFFDA49F-3881-46DC-ADBB-54B8F342280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2"/>
          <p:cNvSpPr/>
          <p:nvPr/>
        </p:nvSpPr>
        <p:spPr>
          <a:xfrm>
            <a:off x="142920" y="4284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0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COMPARISON AND FORMATION OF ADJECTIVES AND AD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428760" y="1371600"/>
          <a:ext cx="8501040" cy="2057400"/>
        </p:xfrm>
        <a:graphic>
          <a:graphicData uri="http://schemas.openxmlformats.org/drawingml/2006/table">
            <a:tbl>
              <a:tblPr/>
              <a:tblGrid>
                <a:gridCol w="1300680"/>
                <a:gridCol w="499680"/>
                <a:gridCol w="331560"/>
                <a:gridCol w="216000"/>
                <a:gridCol w="607680"/>
                <a:gridCol w="1478520"/>
                <a:gridCol w="1284840"/>
                <a:gridCol w="428040"/>
                <a:gridCol w="1405440"/>
                <a:gridCol w="948600"/>
              </a:tblGrid>
              <a:tr h="505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jecti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erb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ἀγαθ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εὐ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used roo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μαλλο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μαλιστ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ολυ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ολλ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at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Text Box 96"/>
          <p:cNvSpPr/>
          <p:nvPr/>
        </p:nvSpPr>
        <p:spPr>
          <a:xfrm>
            <a:off x="243000" y="3714840"/>
            <a:ext cx="8686800" cy="28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e learned in module 12.4 that comparison is expressed in Greek either (i) by a genitive, or (ii) by the use of the word </a:t>
            </a:r>
            <a:r>
              <a:rPr b="0" lang="el-GR" sz="2100" spc="-1" strike="noStrike">
                <a:solidFill>
                  <a:srgbClr val="000000"/>
                </a:solidFill>
                <a:latin typeface="Gentium"/>
              </a:rPr>
              <a:t>ἠ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with the second noun in the same case as the fir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100" spc="-1" strike="noStrike">
                <a:solidFill>
                  <a:srgbClr val="000000"/>
                </a:solidFill>
                <a:latin typeface="Gentium"/>
              </a:rPr>
              <a:t>μαλλον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dverb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'more' (qualifying a verb), while </a:t>
            </a:r>
            <a:r>
              <a:rPr b="0" lang="el-GR" sz="2100" spc="-1" strike="noStrike">
                <a:solidFill>
                  <a:srgbClr val="000000"/>
                </a:solidFill>
                <a:latin typeface="Gentium"/>
              </a:rPr>
              <a:t>πλειων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s the adjective 'more' (qualifying a nou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superlative was gradually falling out of use, and often the comparative was used in its pla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Straight Arrow Connector 5"/>
          <p:cNvCxnSpPr/>
          <p:nvPr/>
        </p:nvCxnSpPr>
        <p:spPr>
          <a:xfrm>
            <a:off x="2700360" y="2114640"/>
            <a:ext cx="6433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4" name="Straight Arrow Connector 6"/>
          <p:cNvCxnSpPr/>
          <p:nvPr/>
        </p:nvCxnSpPr>
        <p:spPr>
          <a:xfrm>
            <a:off x="2700360" y="2685600"/>
            <a:ext cx="64332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5" name="Straight Arrow Connector 7"/>
          <p:cNvCxnSpPr/>
          <p:nvPr/>
        </p:nvCxnSpPr>
        <p:spPr>
          <a:xfrm>
            <a:off x="2700360" y="3184560"/>
            <a:ext cx="6433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6" name="Straight Arrow Connector 8"/>
          <p:cNvCxnSpPr/>
          <p:nvPr/>
        </p:nvCxnSpPr>
        <p:spPr>
          <a:xfrm>
            <a:off x="5929200" y="2685600"/>
            <a:ext cx="64332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:Grammar </a:t>
            </a:r>
            <a:fld id="{2C5C523F-812E-4B2E-A1E4-749D3BF8A4C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2"/>
          <p:cNvSpPr/>
          <p:nvPr/>
        </p:nvSpPr>
        <p:spPr>
          <a:xfrm>
            <a:off x="142920" y="4284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0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COMPARISON AND FORMATION OF ADJECTIVES AND AD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371520" y="2233440"/>
            <a:ext cx="8400960" cy="2311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Hint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helpful to remember that words ending in -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ως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re adverbs. You should now understand how the forms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αλως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μοιως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οὑτως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which you learnt earlier, have been formed from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αλος, ὁμοιος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οὑτος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:Grammar </a:t>
            </a:r>
            <a:fld id="{36F353BC-AF72-424F-8D79-BC040BCEFE8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2"/>
          <p:cNvSpPr/>
          <p:nvPr/>
        </p:nvSpPr>
        <p:spPr>
          <a:xfrm>
            <a:off x="142920" y="4284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0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COMPARISON AND FORMATION OF ADJECTIVES AND AD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571680" y="1171440"/>
          <a:ext cx="8143560" cy="1524240"/>
        </p:xfrm>
        <a:graphic>
          <a:graphicData uri="http://schemas.openxmlformats.org/drawingml/2006/table">
            <a:tbl>
              <a:tblPr/>
              <a:tblGrid>
                <a:gridCol w="4174920"/>
                <a:gridCol w="3968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mples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ἀξιως</a:t>
                      </a: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-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a worthy mann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ρωτως</a:t>
                      </a: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-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 the first ti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αντως</a:t>
                      </a: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-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all mea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ὀντως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­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l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Text Box 29"/>
          <p:cNvSpPr/>
          <p:nvPr/>
        </p:nvSpPr>
        <p:spPr>
          <a:xfrm>
            <a:off x="338040" y="2922480"/>
            <a:ext cx="853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0"/>
          <p:cNvSpPr/>
          <p:nvPr/>
        </p:nvSpPr>
        <p:spPr>
          <a:xfrm>
            <a:off x="214200" y="2957400"/>
            <a:ext cx="9144000" cy="38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rk 1.32: </a:t>
            </a:r>
            <a:r>
              <a:rPr b="0" lang="el-GR" sz="2300" spc="-1" strike="noStrike">
                <a:solidFill>
                  <a:srgbClr val="000000"/>
                </a:solidFill>
                <a:latin typeface="Gentium"/>
              </a:rPr>
              <a:t>ἐφερον προς αὐτον παντας τους </a:t>
            </a:r>
            <a:r>
              <a:rPr b="0" lang="el-GR" sz="2300" spc="-1" strike="noStrike" u="sng">
                <a:solidFill>
                  <a:srgbClr val="000000"/>
                </a:solidFill>
                <a:uFillTx/>
                <a:latin typeface="Gentium"/>
              </a:rPr>
              <a:t>κακως</a:t>
            </a:r>
            <a:r>
              <a:rPr b="0" lang="el-GR" sz="2300" spc="-1" strike="noStrike">
                <a:solidFill>
                  <a:srgbClr val="000000"/>
                </a:solidFill>
                <a:latin typeface="Gentium"/>
              </a:rPr>
              <a:t> ἐχοντας</a:t>
            </a:r>
            <a:r>
              <a:rPr b="0" lang="en-GB" sz="2300" spc="-1" strike="noStrike">
                <a:solidFill>
                  <a:srgbClr val="000000"/>
                </a:solidFill>
                <a:latin typeface="Gentium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were bringing to him all those who were sic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lit: the ones 'having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badl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'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rk 5.23: </a:t>
            </a:r>
            <a:r>
              <a:rPr b="0" lang="el-GR" sz="2300" spc="-1" strike="noStrike">
                <a:solidFill>
                  <a:srgbClr val="000000"/>
                </a:solidFill>
                <a:latin typeface="Gentium"/>
              </a:rPr>
              <a:t>λεγων ὁτι Το θυγατριον μου </a:t>
            </a:r>
            <a:r>
              <a:rPr b="0" lang="el-GR" sz="2300" spc="-1" strike="noStrike" u="sng">
                <a:solidFill>
                  <a:srgbClr val="000000"/>
                </a:solidFill>
                <a:uFillTx/>
                <a:latin typeface="Gentium"/>
              </a:rPr>
              <a:t>ἐσχατως</a:t>
            </a:r>
            <a:r>
              <a:rPr b="0" lang="el-GR" sz="2300" spc="-1" strike="noStrike">
                <a:solidFill>
                  <a:srgbClr val="000000"/>
                </a:solidFill>
                <a:latin typeface="Gentium"/>
              </a:rPr>
              <a:t> ἐχει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ying, 'My daughter is dying' (lit: has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finall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 Cor. 7.40: </a:t>
            </a:r>
            <a:r>
              <a:rPr b="0" lang="el-GR" sz="2300" spc="-1" strike="noStrike" u="sng">
                <a:solidFill>
                  <a:srgbClr val="000000"/>
                </a:solidFill>
                <a:uFillTx/>
                <a:latin typeface="Gentium"/>
              </a:rPr>
              <a:t>μακαριωτερα</a:t>
            </a:r>
            <a:r>
              <a:rPr b="0" lang="el-GR" sz="2300" spc="-1" strike="noStrike">
                <a:solidFill>
                  <a:srgbClr val="000000"/>
                </a:solidFill>
                <a:latin typeface="Gentium"/>
              </a:rPr>
              <a:t> δε ἐστιν ἐαν </a:t>
            </a:r>
            <a:r>
              <a:rPr b="0" lang="el-GR" sz="2300" spc="-1" strike="noStrike" u="sng">
                <a:solidFill>
                  <a:srgbClr val="000000"/>
                </a:solidFill>
                <a:uFillTx/>
                <a:latin typeface="Gentium"/>
              </a:rPr>
              <a:t>οὑτως</a:t>
            </a:r>
            <a:r>
              <a:rPr b="0" lang="el-GR" sz="2300" spc="-1" strike="noStrike">
                <a:solidFill>
                  <a:srgbClr val="000000"/>
                </a:solidFill>
                <a:latin typeface="Gentium"/>
              </a:rPr>
              <a:t> μεινῃ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e is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more bless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f she remains as she is (lit: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thu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:Grammar </a:t>
            </a:r>
            <a:fld id="{1E6E714E-E950-4E42-AB6F-6BF14C2C119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"/>
          <p:cNvSpPr/>
          <p:nvPr/>
        </p:nvSpPr>
        <p:spPr>
          <a:xfrm>
            <a:off x="241200" y="244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0.1 COND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700200" y="1176480"/>
            <a:ext cx="77436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0.1.2 Two variations on the basic conditiona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133200" y="1814400"/>
            <a:ext cx="8996400" cy="44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a) Indefinite Conditions (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αν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+ subjunctiv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times Greek will use 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αν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+ subjunctive rather than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εἰ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 + Indicative in the protas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: 'If you like Greek, you will learn it'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ever, sometimes, 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αν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+ subjunctive is used to highlight that the protasis is indefinite because it addresses a generic situation, without a particular occasion being in min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: ‘If someone enjoys rules and patterns, they like Greek’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:Grammar </a:t>
            </a:r>
            <a:fld id="{119F7182-80E8-40F3-A56F-76664864E8B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2"/>
          <p:cNvSpPr/>
          <p:nvPr/>
        </p:nvSpPr>
        <p:spPr>
          <a:xfrm>
            <a:off x="244440" y="27612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0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OPTA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214200" y="1214280"/>
            <a:ext cx="9144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optative is used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 For wis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. For indirect questions (i.e. questions within reported speech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142920" y="2928960"/>
            <a:ext cx="8858160" cy="36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mans 6.1-2: 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πιμενωμεν τῃ ἁμαρτιᾳ, ἱνα ἡ χαρις πλεονασῃ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;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</a:rPr>
              <a:t>μη γενοιτο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Should we remain in sin in order that grace abounds?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By no mean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uke 1.38: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</a:rPr>
              <a:t>γενοιτο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μοι κατα το ῥημα σου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May it b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o me according to your wor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:Grammar </a:t>
            </a:r>
            <a:fld id="{F21F9C38-1C03-426B-A9A2-49C01A79A41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2"/>
          <p:cNvSpPr/>
          <p:nvPr/>
        </p:nvSpPr>
        <p:spPr>
          <a:xfrm>
            <a:off x="241200" y="244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0.1 COND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1214280" y="4000680"/>
            <a:ext cx="6715440" cy="1723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int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English,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contrary to fact condition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re marked out by 'would' in the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apodosi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190440" y="1214280"/>
            <a:ext cx="8953560" cy="23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b) 'Contrary to Fact' conditions (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ν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 apodosi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times Greek will put the word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ν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 the apodosis; it is still the case that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protasis is tru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HE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apodosis follows. However, the writer believes that the protasis is NOT tr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: ‘If you had liked Greek, you would have learnt it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:Grammar </a:t>
            </a:r>
            <a:fld id="{93E9C5C1-D814-43F1-98B0-6EFD6EAFD63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"/>
          <p:cNvSpPr/>
          <p:nvPr/>
        </p:nvSpPr>
        <p:spPr>
          <a:xfrm>
            <a:off x="241200" y="244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0.1 COND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600120" y="11574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0.1.3 The form of conditionals in Gree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73040" y="1785960"/>
          <a:ext cx="8199360" cy="1768320"/>
        </p:xfrm>
        <a:graphic>
          <a:graphicData uri="http://schemas.openxmlformats.org/drawingml/2006/table">
            <a:tbl>
              <a:tblPr/>
              <a:tblGrid>
                <a:gridCol w="3460680"/>
                <a:gridCol w="2352960"/>
                <a:gridCol w="23857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a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odo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 Condition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εἰ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Indica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y Mood or Ten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finite Condi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ἐαν</a:t>
                      </a: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Subjunc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y Mood or Ten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'Contrary to Fact' Condi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εἰ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Indica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ἀν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Indica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Text Box 40"/>
          <p:cNvSpPr/>
          <p:nvPr/>
        </p:nvSpPr>
        <p:spPr>
          <a:xfrm>
            <a:off x="152280" y="3857760"/>
            <a:ext cx="8839440" cy="2273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rotasis: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3000" spc="-1" strike="noStrike">
                <a:solidFill>
                  <a:srgbClr val="000000"/>
                </a:solidFill>
                <a:latin typeface="Gentium"/>
              </a:rPr>
              <a:t>εἰ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 + Indicative = If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</a:t>
            </a:r>
            <a:r>
              <a:rPr b="0" lang="el-GR" sz="3000" spc="-1" strike="noStrike">
                <a:solidFill>
                  <a:srgbClr val="000000"/>
                </a:solidFill>
                <a:latin typeface="Gentium"/>
              </a:rPr>
              <a:t>ἐαν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+ Subjunctive = If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(future/generalised/hypothetical)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podosis: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3000" spc="-1" strike="noStrike">
                <a:solidFill>
                  <a:srgbClr val="000000"/>
                </a:solidFill>
                <a:latin typeface="Gentium"/>
              </a:rPr>
              <a:t>ἀν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= Would (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protasis seen as untrue)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:Grammar </a:t>
            </a:r>
            <a:fld id="{3957DB35-97AE-418C-A9A3-BAF5D4745F8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"/>
          <p:cNvSpPr/>
          <p:nvPr/>
        </p:nvSpPr>
        <p:spPr>
          <a:xfrm>
            <a:off x="241200" y="244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0.1 COND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214200" y="1274760"/>
            <a:ext cx="8715600" cy="53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Examples:</a:t>
            </a:r>
            <a:r>
              <a:rPr b="0" lang="el-GR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100" spc="-1" strike="noStrike" u="sng">
                <a:solidFill>
                  <a:srgbClr val="000000"/>
                </a:solidFill>
                <a:uFillTx/>
                <a:latin typeface="Arial"/>
              </a:rPr>
              <a:t>Basic Conditions (Fulfilled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Gal. 3.29: </a:t>
            </a:r>
            <a:r>
              <a:rPr b="0" lang="el-GR" sz="2500" spc="-1" strike="noStrike" u="sng">
                <a:solidFill>
                  <a:srgbClr val="000000"/>
                </a:solidFill>
                <a:uFillTx/>
                <a:latin typeface="Gentium"/>
              </a:rPr>
              <a:t>εἰ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 δε ὑμεις Χριστου, ἀρα του Ἀβρααμ σπερμα ἐστε</a:t>
            </a:r>
            <a:r>
              <a:rPr b="0" lang="en-GB" sz="2300" spc="-1" strike="noStrike">
                <a:solidFill>
                  <a:srgbClr val="000000"/>
                </a:solidFill>
                <a:latin typeface="Gentium"/>
              </a:rPr>
              <a:t>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If you are Christ's, then you are Abraham's offspring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1 Cor. 8.3: </a:t>
            </a:r>
            <a:r>
              <a:rPr b="0" lang="el-GR" sz="2500" spc="-1" strike="noStrike" u="sng">
                <a:solidFill>
                  <a:srgbClr val="000000"/>
                </a:solidFill>
                <a:uFillTx/>
                <a:latin typeface="Gentium"/>
              </a:rPr>
              <a:t>εἰ</a:t>
            </a:r>
            <a:r>
              <a:rPr b="0" lang="en-GB" sz="2500" spc="-1" strike="noStrike" u="sng">
                <a:solidFill>
                  <a:srgbClr val="000000"/>
                </a:solidFill>
                <a:uFillTx/>
                <a:latin typeface="Gentium"/>
              </a:rPr>
              <a:t></a:t>
            </a:r>
            <a:r>
              <a:rPr b="0" lang="en-GB" sz="25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δε τις ἀγαπᾳ τον θεον, οὑτος ἐγνωσται ὑπ’ αὐτου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If someone loves God, he is known by him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Luke 23.37: </a:t>
            </a:r>
            <a:r>
              <a:rPr b="0" lang="el-GR" sz="2500" spc="-1" strike="noStrike" u="sng">
                <a:solidFill>
                  <a:srgbClr val="000000"/>
                </a:solidFill>
                <a:uFillTx/>
                <a:latin typeface="Gentium"/>
              </a:rPr>
              <a:t>εἰ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 συ εἶ ὁ βασιλευς των Ἰουδαιων, σωσον σεαυτον</a:t>
            </a:r>
            <a:r>
              <a:rPr b="0" lang="en-GB" sz="2500" spc="-1" strike="noStrike">
                <a:solidFill>
                  <a:srgbClr val="000000"/>
                </a:solidFill>
                <a:latin typeface="Gentium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If you are the king of Israel, save yourself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Luke 11.19: </a:t>
            </a:r>
            <a:r>
              <a:rPr b="0" lang="el-GR" sz="2500" spc="-1" strike="noStrike" u="sng">
                <a:solidFill>
                  <a:srgbClr val="000000"/>
                </a:solidFill>
                <a:uFillTx/>
                <a:latin typeface="Gentium"/>
              </a:rPr>
              <a:t>εἰ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 δε ἐγω ἐν Βεελζεβουλ ἐκβαλλω τα δαιμονια, οἱ υἱοι 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ὑμων ἐν τίνι ἐκβαλλουσιν</a:t>
            </a:r>
            <a:r>
              <a:rPr b="0" lang="en-GB" sz="2500" spc="-1" strike="noStrike">
                <a:solidFill>
                  <a:srgbClr val="000000"/>
                </a:solidFill>
                <a:latin typeface="Gentium"/>
              </a:rPr>
              <a:t>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If I cast out demons by Beelzeboul, by whom do your sons 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cast them out?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3"/>
          <p:cNvSpPr/>
          <p:nvPr/>
        </p:nvSpPr>
        <p:spPr>
          <a:xfrm>
            <a:off x="214200" y="1184400"/>
            <a:ext cx="8858520" cy="55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Indefinite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t. 9.21: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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</a:rPr>
              <a:t>ἐαν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μονον 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</a:rPr>
              <a:t>ἁψωμαι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του ἱματιου αὐτου, σωθησομαι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only I touch his cloak, I will be sa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hn 14.14: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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</a:rPr>
              <a:t>ἐαν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τι 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</a:rPr>
              <a:t>αἰτησητε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με ἐν τῳ ὀνοματι μου, ἐγω ποιησω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you ask me for anything in my name, I will do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r. 14.14: </a:t>
            </a:r>
            <a:r>
              <a:rPr b="0" lang="en-GB" sz="2100" spc="-1" strike="noStrike" u="sng">
                <a:solidFill>
                  <a:srgbClr val="000000"/>
                </a:solidFill>
                <a:uFillTx/>
                <a:latin typeface="Arial"/>
              </a:rPr>
              <a:t>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</a:rPr>
              <a:t>ἐαν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γαρ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</a:rPr>
              <a:t>προσευχωμαι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γλωσσῃ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,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το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πνευμα μου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προσευχεται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cause if I pray in a tongue, my spirit pray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 John 2.15: </a:t>
            </a:r>
            <a:r>
              <a:rPr b="0" lang="en-GB" sz="2100" spc="-1" strike="noStrike" u="sng">
                <a:solidFill>
                  <a:srgbClr val="000000"/>
                </a:solidFill>
                <a:uFillTx/>
                <a:latin typeface="Arial"/>
              </a:rPr>
              <a:t>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</a:rPr>
              <a:t>ἐαν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τις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</a:rPr>
              <a:t>ἀγαπᾳ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τον κοσμον, οὐκ ἐστιν ἡ ἀγαπη του πατρος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ν αὐτ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someone loves the world, the love of the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ther is not in hi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:Grammar </a:t>
            </a:r>
            <a:fld id="{1ED632B4-6335-45AB-82E2-F99AD60C181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244440" y="247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0.1 COND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1"/>
          <p:cNvSpPr/>
          <p:nvPr/>
        </p:nvSpPr>
        <p:spPr>
          <a:xfrm>
            <a:off x="244440" y="247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0.1 COND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:Grammar </a:t>
            </a:r>
            <a:fld id="{CA0A2D04-9AE4-4446-9489-A3B99003E39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357120" y="1440000"/>
            <a:ext cx="8501040" cy="46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 u="sng">
                <a:solidFill>
                  <a:srgbClr val="000000"/>
                </a:solidFill>
                <a:uFillTx/>
                <a:latin typeface="Arial"/>
              </a:rPr>
              <a:t>Unfulfilled Conditi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John 5.46: </a:t>
            </a:r>
            <a:r>
              <a:rPr b="0" lang="el-GR" sz="2500" spc="-1" strike="noStrike" u="sng">
                <a:solidFill>
                  <a:srgbClr val="000000"/>
                </a:solidFill>
                <a:uFillTx/>
                <a:latin typeface="Gentium"/>
              </a:rPr>
              <a:t>εἰ</a:t>
            </a:r>
            <a:r>
              <a:rPr b="0" lang="en-GB" sz="2500" spc="-1" strike="noStrike" u="sng">
                <a:solidFill>
                  <a:srgbClr val="000000"/>
                </a:solidFill>
                <a:uFillTx/>
                <a:latin typeface="Gentium"/>
              </a:rPr>
              <a:t></a:t>
            </a:r>
            <a:r>
              <a:rPr b="0" lang="en-GB" sz="25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γαρ ἐπιστευετε Μωϋσει, ἐπιστευετε </a:t>
            </a:r>
            <a:r>
              <a:rPr b="0" lang="el-GR" sz="2500" spc="-1" strike="noStrike" u="sng">
                <a:solidFill>
                  <a:srgbClr val="000000"/>
                </a:solidFill>
                <a:uFillTx/>
                <a:latin typeface="Gentium"/>
              </a:rPr>
              <a:t>ἀν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 ἐμοι</a:t>
            </a:r>
            <a:r>
              <a:rPr b="0" lang="en-GB" sz="2500" spc="-1" strike="noStrike">
                <a:solidFill>
                  <a:srgbClr val="000000"/>
                </a:solidFill>
                <a:latin typeface="Gentium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n-GB" sz="2100" spc="-1" strike="noStrike" u="sng">
                <a:solidFill>
                  <a:srgbClr val="000000"/>
                </a:solidFill>
                <a:uFillTx/>
                <a:latin typeface="Arial"/>
              </a:rPr>
              <a:t>if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you believe Moses, you </a:t>
            </a:r>
            <a:r>
              <a:rPr b="0" lang="en-GB" sz="2100" spc="-1" strike="noStrike" u="sng">
                <a:solidFill>
                  <a:srgbClr val="000000"/>
                </a:solidFill>
                <a:uFillTx/>
                <a:latin typeface="Arial"/>
              </a:rPr>
              <a:t>would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believe m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1 Cor. 2.8: </a:t>
            </a:r>
            <a:r>
              <a:rPr b="0" lang="el-GR" sz="2500" spc="-1" strike="noStrike" u="sng">
                <a:solidFill>
                  <a:srgbClr val="000000"/>
                </a:solidFill>
                <a:uFillTx/>
                <a:latin typeface="Gentium"/>
              </a:rPr>
              <a:t>εἰ</a:t>
            </a:r>
            <a:r>
              <a:rPr b="0" lang="en-GB" sz="2500" spc="-1" strike="noStrike" u="sng">
                <a:solidFill>
                  <a:srgbClr val="000000"/>
                </a:solidFill>
                <a:uFillTx/>
                <a:latin typeface="Gentium"/>
              </a:rPr>
              <a:t></a:t>
            </a:r>
            <a:r>
              <a:rPr b="0" lang="en-GB" sz="25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γαρ ἐγνωσαν, οὐκ </a:t>
            </a:r>
            <a:r>
              <a:rPr b="0" lang="el-GR" sz="2500" spc="-1" strike="noStrike" u="sng">
                <a:solidFill>
                  <a:srgbClr val="000000"/>
                </a:solidFill>
                <a:uFillTx/>
                <a:latin typeface="Gentium"/>
              </a:rPr>
              <a:t>ἀν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 τον κυριον της δοξης 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ἐσταυρωσαν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n-GB" sz="2100" spc="-1" strike="noStrike" u="sng">
                <a:solidFill>
                  <a:srgbClr val="000000"/>
                </a:solidFill>
                <a:uFillTx/>
                <a:latin typeface="Arial"/>
              </a:rPr>
              <a:t>if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they had known, they </a:t>
            </a:r>
            <a:r>
              <a:rPr b="0" lang="en-GB" sz="2100" spc="-1" strike="noStrike" u="sng">
                <a:solidFill>
                  <a:srgbClr val="000000"/>
                </a:solidFill>
                <a:uFillTx/>
                <a:latin typeface="Arial"/>
              </a:rPr>
              <a:t>would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not have crucified the 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lord of glory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Heb. 8.4: </a:t>
            </a:r>
            <a:r>
              <a:rPr b="0" lang="el-GR" sz="2500" spc="-1" strike="noStrike" u="sng">
                <a:solidFill>
                  <a:srgbClr val="000000"/>
                </a:solidFill>
                <a:uFillTx/>
                <a:latin typeface="Gentium"/>
              </a:rPr>
              <a:t>εἰ</a:t>
            </a:r>
            <a:r>
              <a:rPr b="0" lang="en-GB" sz="2500" spc="-1" strike="noStrike" u="sng">
                <a:solidFill>
                  <a:srgbClr val="000000"/>
                </a:solidFill>
                <a:uFillTx/>
                <a:latin typeface="Gentium"/>
              </a:rPr>
              <a:t></a:t>
            </a:r>
            <a:r>
              <a:rPr b="0" lang="en-GB" sz="25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μεν οὐν ἠν ἐπι γης, οὐδ’ </a:t>
            </a:r>
            <a:r>
              <a:rPr b="0" lang="el-GR" sz="2500" spc="-1" strike="noStrike" u="sng">
                <a:solidFill>
                  <a:srgbClr val="000000"/>
                </a:solidFill>
                <a:uFillTx/>
                <a:latin typeface="Gentium"/>
              </a:rPr>
              <a:t>ἀν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 ἠν ἱερευς</a:t>
            </a:r>
            <a:r>
              <a:rPr b="0" lang="en-GB" sz="2500" spc="-1" strike="noStrike">
                <a:solidFill>
                  <a:srgbClr val="000000"/>
                </a:solidFill>
                <a:latin typeface="Gentium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Therefore </a:t>
            </a:r>
            <a:r>
              <a:rPr b="0" lang="en-GB" sz="2100" spc="-1" strike="noStrike" u="sng">
                <a:solidFill>
                  <a:srgbClr val="000000"/>
                </a:solidFill>
                <a:uFillTx/>
                <a:latin typeface="Arial"/>
              </a:rPr>
              <a:t>if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he were on earth, he </a:t>
            </a:r>
            <a:r>
              <a:rPr b="0" lang="en-GB" sz="2100" spc="-1" strike="noStrike" u="sng">
                <a:solidFill>
                  <a:srgbClr val="000000"/>
                </a:solidFill>
                <a:uFillTx/>
                <a:latin typeface="Arial"/>
              </a:rPr>
              <a:t>would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not even be a 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priest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3"/>
          <p:cNvSpPr/>
          <p:nvPr/>
        </p:nvSpPr>
        <p:spPr>
          <a:xfrm>
            <a:off x="285840" y="2205000"/>
            <a:ext cx="874872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rk 14.17: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αι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</a:rPr>
              <a:t>ὀψιας γενομενης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ρχεται μετα των δωδεκα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When it was evenin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he comes (came) with the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wel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lit: 'evening having happened'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2"/>
          <p:cNvSpPr/>
          <p:nvPr/>
        </p:nvSpPr>
        <p:spPr>
          <a:xfrm>
            <a:off x="244440" y="247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0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GENITIVE ABSOLUT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:Grammar </a:t>
            </a:r>
            <a:fld id="{DA6E001E-5183-442D-B83F-5816920074D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1"/>
          <p:cNvSpPr/>
          <p:nvPr/>
        </p:nvSpPr>
        <p:spPr>
          <a:xfrm>
            <a:off x="244440" y="247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0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GENITIVE ABSOLUT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:Grammar </a:t>
            </a:r>
            <a:fld id="{D6247B4B-4E2C-460A-8C1F-CAE5F8CEB82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1425240" y="1833480"/>
            <a:ext cx="67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2"/>
          <p:cNvSpPr/>
          <p:nvPr/>
        </p:nvSpPr>
        <p:spPr>
          <a:xfrm>
            <a:off x="5038560" y="196848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4"/>
          <p:cNvSpPr/>
          <p:nvPr/>
        </p:nvSpPr>
        <p:spPr>
          <a:xfrm>
            <a:off x="4746600" y="222552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9"/>
          <p:cNvSpPr/>
          <p:nvPr/>
        </p:nvSpPr>
        <p:spPr>
          <a:xfrm>
            <a:off x="5199120" y="305424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1"/>
          <p:cNvSpPr/>
          <p:nvPr/>
        </p:nvSpPr>
        <p:spPr>
          <a:xfrm>
            <a:off x="4840200" y="331308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6"/>
          <p:cNvSpPr/>
          <p:nvPr/>
        </p:nvSpPr>
        <p:spPr>
          <a:xfrm>
            <a:off x="4919760" y="413856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0"/>
          <p:cNvSpPr/>
          <p:nvPr/>
        </p:nvSpPr>
        <p:spPr>
          <a:xfrm>
            <a:off x="5051520" y="492120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3"/>
          <p:cNvSpPr/>
          <p:nvPr/>
        </p:nvSpPr>
        <p:spPr>
          <a:xfrm>
            <a:off x="7361280" y="256392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5"/>
          <p:cNvSpPr/>
          <p:nvPr/>
        </p:nvSpPr>
        <p:spPr>
          <a:xfrm>
            <a:off x="7318440" y="282240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8"/>
          <p:cNvSpPr/>
          <p:nvPr/>
        </p:nvSpPr>
        <p:spPr>
          <a:xfrm>
            <a:off x="7481880" y="365112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0"/>
          <p:cNvSpPr/>
          <p:nvPr/>
        </p:nvSpPr>
        <p:spPr>
          <a:xfrm>
            <a:off x="7164360" y="390996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7"/>
          <p:cNvSpPr/>
          <p:nvPr/>
        </p:nvSpPr>
        <p:spPr>
          <a:xfrm>
            <a:off x="7291440" y="473400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51"/>
          <p:cNvSpPr/>
          <p:nvPr/>
        </p:nvSpPr>
        <p:spPr>
          <a:xfrm>
            <a:off x="2932200" y="396252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3"/>
          <p:cNvSpPr/>
          <p:nvPr/>
        </p:nvSpPr>
        <p:spPr>
          <a:xfrm>
            <a:off x="2859120" y="422100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7"/>
          <p:cNvSpPr/>
          <p:nvPr/>
        </p:nvSpPr>
        <p:spPr>
          <a:xfrm>
            <a:off x="3052800" y="504972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9"/>
          <p:cNvSpPr/>
          <p:nvPr/>
        </p:nvSpPr>
        <p:spPr>
          <a:xfrm>
            <a:off x="2474640" y="5300640"/>
            <a:ext cx="67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2"/>
          <p:cNvSpPr/>
          <p:nvPr/>
        </p:nvSpPr>
        <p:spPr>
          <a:xfrm>
            <a:off x="2920680" y="6132600"/>
            <a:ext cx="67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Group 65" descr=""/>
          <p:cNvPicPr/>
          <p:nvPr/>
        </p:nvPicPr>
        <p:blipFill>
          <a:blip r:embed="rId1"/>
          <a:stretch/>
        </p:blipFill>
        <p:spPr>
          <a:xfrm>
            <a:off x="1401840" y="1908000"/>
            <a:ext cx="6315120" cy="470088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6"/>
          <p:cNvSpPr/>
          <p:nvPr/>
        </p:nvSpPr>
        <p:spPr>
          <a:xfrm>
            <a:off x="142920" y="11415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'While he was passing along the sea, he saw Simon and Andrew casting (nets) in the sea'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5T18:27:07Z</dcterms:created>
  <dc:creator>Sarah</dc:creator>
  <dc:description/>
  <dc:language>en-US</dc:language>
  <cp:lastModifiedBy>Sarah</cp:lastModifiedBy>
  <dcterms:modified xsi:type="dcterms:W3CDTF">2009-07-11T14:52:55Z</dcterms:modified>
  <cp:revision>46</cp:revision>
  <dc:subject/>
  <dc:title>Slide 1</dc:title>
</cp:coreProperties>
</file>